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BEE-EC4D-42C6-99A2-9A499217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548-13B0-4AC5-83F4-6BEF9377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5C5-2F3C-4823-A63F-86E9D404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E71-F31E-4F75-9E7C-8A8DDD82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0EC-B2CC-4300-8465-63F34565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BCB-9204-42DE-A811-FCA06BCE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D6F-DF8D-45F3-944A-3DCFA9FF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E92-973B-4483-BF78-146C5088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4F3-D01A-47B4-9DAD-AAAEDE2A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7BA-DAEC-4A22-A54E-34B3E509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26E-AE40-4E85-BE1A-4B5E13F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E89-85DA-48C2-BCFE-62122CF0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132-75A7-456D-90F6-39B13343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Da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- electronic mail which allows individuals with an account to send messages to another person with an e-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 Oikarinen and allows instant online communicating with someone else who is also online by typing messages back and fou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 bulletin board service allows a user to participate in a discussi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- hypertext transfer protocol is used for handling the transmission of pages between a web server and a web brow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- file transfer protocol is used to rapidly transfer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- a program used o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- one of the first widespread internet brows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- a network used by a single organization and only accessible by authorized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- a network security system that prevents unauthorized network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net-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rofiling-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-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- a collection of servers that offer net 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width- the amount of data and the speed at which the data can travel over the transmission medi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 digital subscri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topology and connects the network devices by twisting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-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-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s-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8:34Z</dcterms:created>
  <dc:creator>772617</dc:creator>
  <dc:description/>
  <dc:language>en-US</dc:language>
  <cp:lastModifiedBy>772617</cp:lastModifiedBy>
  <dcterms:modified xsi:type="dcterms:W3CDTF">2009-04-16T15:29:48Z</dcterms:modified>
  <cp:revision>3</cp:revision>
  <dc:subject/>
  <dc:title>Vocabulary </dc:title>
</cp:coreProperties>
</file>